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C49E-ACC5-4D3B-B134-2FD29A6E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D3C3-574C-412E-AF48-A2C5B890AA2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78E2-9985-49AD-A52D-0AF9D8D0D88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03C-490A-4BC7-8878-0FD9AEDE6B0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07F6-6A8F-4AC9-8011-6CA39009589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C01E-8B40-4CAC-AA8F-D9B3540BF57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097-4D80-4E86-84C3-B225E929BBD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50A1-ACE1-4396-8F47-376C605B65A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A1B1-7A68-44D6-A235-D7B835F4B07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E4DD-9C33-413B-B786-3676541C079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58ED-18FA-4EA8-AE35-2E16A88BB6F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6E83-A23B-4154-AA82-AB9FF1F21B8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01A5-0FCD-4542-91A2-5E3E4A0DCD8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F4A4-B972-4812-B625-82A0F58F681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4CDC-6482-4533-A5C4-AF3E74DEAF3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22AF-B505-448E-B26A-63BDFB744F0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616-4216-468D-9F24-0C54426A049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0826-8720-4D6C-8EF1-D672453D295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47F8-5CC1-4CBA-AEB8-D3EFFF18AEB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857B-CC84-496E-A59E-995E99A0E5A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EFDA-EA11-41C1-AE60-5B8082C68DF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656C-EBBB-4A07-9A2B-05D13F0EB6B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C9E0-C013-4FBF-A5FF-8D9041604D3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4994-D372-4E65-941A-A92137FE2AE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00D-F1E7-4F89-9031-D32AF8708A1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C738-B7AC-4C31-9A1E-41586B4974B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6E15-0E4E-472A-B5F4-09AA6B41BA0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F79C-58A0-4D84-8703-E41440C237B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3233-8C2B-4D04-BBB3-754E9EA3687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496D-4A57-4DF1-A8CA-218CBC160C7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73DF-6AB8-4A39-92F4-F4AF8F22113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371F-03E3-49D6-8B36-05C309D9FF6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FE76-3FEA-49F7-B55F-3185C636119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EA5-55E6-43E5-8E7B-096433E29E2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9C46-F42A-4F56-944C-21277274A0C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025A-6EA4-4521-8CB9-6A8CA5A36F3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CCD2-E49C-48E5-B4B7-85027D019C4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8738-6850-4746-BB4F-FD7AA2466D4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0CBE-975F-4821-AF9E-29573D47CF3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0DA4-BB05-46A7-AC70-3B123246093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FB7-4212-4408-8EC0-29FDE37C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D17-3FB8-4EB4-AB7F-088B947E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599-44EF-47E9-9243-BF268943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B35-8AAF-4FCD-9736-E859DFE2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FE6E-CEA9-40AB-971E-F82800BE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6E46-D457-4042-A62C-A04086D8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167D-B7EC-47CA-BF8A-0DEF34AE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BE97-1079-4547-890C-834493F1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8A4C-354A-49AD-84E0-A955CB4D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2B7E-6F6E-4986-B1E6-06D52F8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0343-F891-4954-B123-E891A28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150-89E2-4BF4-874A-CFB7A9BA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18A1-1211-4845-B331-A9E85FE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1D2B-920F-4127-A0B5-C29AA750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C6F4-74EA-49D1-9A0D-7927F0F3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F326-5B92-4143-9679-DD8EC04A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14C9-50E0-4778-B381-ED1200D5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B59-1E7F-4A5F-A9C9-10DAB4A8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A5F-D8C3-4319-B185-E080566B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538-FB3C-4E33-B2C3-FBF10E42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D4F-BD7B-475C-8BE7-D84D9330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4C6-C526-4A98-AA48-8C9C3FD1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1C9-2384-4ECA-A0C3-601C973F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901-80CB-4945-93E7-B28F094C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A8FD-0ECD-424B-A8BB-D0FD8965B90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026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1027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1028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1029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1030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1031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32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1033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34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035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EAAA-C2BE-4988-9A84-7C609349BA5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LF-CONFIDENCE: 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THE KEY TO 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PORT SUCCE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4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HOW SELF-CONFIDENCE IMPACTS PERFORM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owers anxiety by creating positive expectations of succes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increases motivation by raising perceived competence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nhances concentration by eliminating distraction from negative thoughts and personal putdow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Line 1028"/>
          <p:cNvSpPr/>
          <p:nvPr/>
        </p:nvSpPr>
        <p:spPr>
          <a:xfrm>
            <a:off x="1066680" y="1676520"/>
            <a:ext cx="76964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2514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What are the three types of self-confidence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FIDENCE-</a:t>
            </a:r>
            <a:r>
              <a:rPr b="1" lang="en-US" sz="3800" spc="-1" strike="noStrike">
                <a:solidFill>
                  <a:srgbClr val="ff6600"/>
                </a:solidFill>
                <a:latin typeface="Times New Roman"/>
              </a:rPr>
              <a:t>PERFORMANCE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 RELATIONSHIP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ab4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fcab4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fcab4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Diffidence            Optimal SC              Overconfiden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PERF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ab40"/>
                </a:solidFill>
                <a:latin typeface="Arial Rounded MT Bold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SELF-CONFIDEN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Arc 4"/>
          <p:cNvSpPr/>
          <p:nvPr/>
        </p:nvSpPr>
        <p:spPr>
          <a:xfrm flipV="1" rot="10920000">
            <a:off x="3352320" y="3275280"/>
            <a:ext cx="2286000" cy="2438280"/>
          </a:xfrm>
          <a:prstGeom prst="pi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Arc 5"/>
          <p:cNvSpPr/>
          <p:nvPr/>
        </p:nvSpPr>
        <p:spPr>
          <a:xfrm flipV="1" rot="16299600">
            <a:off x="5790600" y="3276360"/>
            <a:ext cx="2286000" cy="2438280"/>
          </a:xfrm>
          <a:prstGeom prst="pi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514600" y="5791320"/>
            <a:ext cx="59436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Line 7"/>
          <p:cNvSpPr/>
          <p:nvPr/>
        </p:nvSpPr>
        <p:spPr>
          <a:xfrm flipV="1">
            <a:off x="2514600" y="2514600"/>
            <a:ext cx="0" cy="3276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Line 9"/>
          <p:cNvSpPr/>
          <p:nvPr/>
        </p:nvSpPr>
        <p:spPr>
          <a:xfrm flipV="1">
            <a:off x="4419720" y="2514600"/>
            <a:ext cx="0" cy="3276720"/>
          </a:xfrm>
          <a:prstGeom prst="line">
            <a:avLst/>
          </a:prstGeom>
          <a:ln w="9360">
            <a:solidFill>
              <a:srgbClr val="eaeaea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6858000" y="2514600"/>
            <a:ext cx="0" cy="3276720"/>
          </a:xfrm>
          <a:prstGeom prst="line">
            <a:avLst/>
          </a:prstGeom>
          <a:ln w="9360">
            <a:solidFill>
              <a:srgbClr val="eaeaea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OPTIMAL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LF-CONF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ff"/>
                </a:solidFill>
                <a:uFillTx/>
                <a:latin typeface="Times New Roman"/>
              </a:rPr>
              <a:t>Competence</a:t>
            </a:r>
            <a:r>
              <a:rPr b="1" lang="en-US" sz="3200" spc="-1" strike="noStrike">
                <a:solidFill>
                  <a:srgbClr val="fcab4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-- possess the knowledge, strategies, skills and abilities necessary for succes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ff"/>
                </a:solidFill>
                <a:uFillTx/>
                <a:latin typeface="Times New Roman"/>
              </a:rPr>
              <a:t>Preparation</a:t>
            </a:r>
            <a:r>
              <a:rPr b="1" lang="en-US" sz="3200" spc="-1" strike="noStrike">
                <a:solidFill>
                  <a:srgbClr val="fcab4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– sufficiently prepared so you can successfully perform those skills and strategies in a particular competitive situation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illanova’s 1984 upset of Georgetown in the NCAA Championship Gam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1066680" y="1752480"/>
            <a:ext cx="7772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DIFFIDENT ATHLETES . . 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fuse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“what is”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with what they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“wish would be”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or with what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“ought to be,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e themselves as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losers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and act accordingly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istakes devastate their competence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lf doubts fuel self-fulfilling prophecies that create a vicious negative spiral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ocus on their shortcomings and overlook their accomplishments, 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re underachievers whose confidence limits their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1219320" y="1523880"/>
            <a:ext cx="7391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TYPES OF </a:t>
            </a:r>
            <a:br>
              <a:rPr sz="4800"/>
            </a:b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OVERCONFIDENCE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nflated confidence, and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alse confidence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Line 1029"/>
          <p:cNvSpPr/>
          <p:nvPr/>
        </p:nvSpPr>
        <p:spPr>
          <a:xfrm>
            <a:off x="1447920" y="2438280"/>
            <a:ext cx="6629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INFLATED CONF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ople who believe they are better than they really are and have an inflated opinion of themselves and their skil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y overestimate their abilities while underestimating their opponents’ skills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ampering from parents/coaches, playing weak competition, and excessive media hype are its primary cau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ften they are competent but don’t prepare adequately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1295280" y="1600200"/>
            <a:ext cx="73915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FALSE CONF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ct confident on the outside but inside fear failure and are really diffident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retend to be brash, cocky and arrogant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ifficulty admitting errors and filled with excuse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ifficult to coach because they won’t accept responsibility for mistakes, 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normally prepare hard but lack the competence to be successful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1066680" y="1447920"/>
            <a:ext cx="7848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What is the difference between performance and outcome confidence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PERFORMANCE- VERSUS OUTCOME CONF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ff"/>
                </a:solidFill>
                <a:uFillTx/>
                <a:latin typeface="Times New Roman"/>
              </a:rPr>
              <a:t>Performance Confidence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– performers’ belief that they can execute the skills and strategies necessary to perform well and attain their goal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ff"/>
                </a:solidFill>
                <a:uFillTx/>
                <a:latin typeface="Times New Roman"/>
              </a:rPr>
              <a:t>Outcome Confidence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– performers’ belief that they will socially compare well and win the competi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1143000" y="1676520"/>
            <a:ext cx="7696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6600"/>
                </a:solidFill>
                <a:latin typeface="Times New Roman"/>
              </a:rPr>
              <a:t>What is self-confidence?</a:t>
            </a:r>
            <a:endParaRPr b="0" lang="en-US" sz="5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Y IS PERFORMANCE CONFIDENCE BETTER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666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erformance standards are more flexible so they can be raised or lowered to consistently achieve optimal difficulty necessary to keep motivation hig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 is also more controllable, enhancing self-determination, and thus prompting performers to take credit for their successes as indicative of increased compete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Straight Connector 4"/>
          <p:cNvSpPr/>
          <p:nvPr/>
        </p:nvSpPr>
        <p:spPr>
          <a:xfrm>
            <a:off x="1066680" y="1600200"/>
            <a:ext cx="7772400" cy="14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6600"/>
                </a:solidFill>
                <a:latin typeface="Times New Roman"/>
              </a:rPr>
              <a:t>What are some specific strategies you use to boost your self-confidence?</a:t>
            </a:r>
            <a:endParaRPr b="0" lang="en-US" sz="5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FIDENCE DEVELOPMENT STRATEGIE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general confidence development  strategies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six confidence development tips for practitioners, an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strategies for developing and maintaining confidence during competition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Line 1028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ENHANCING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SELF-CONF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914400" y="2133720"/>
            <a:ext cx="243828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Performance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Accomplishmen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914400" y="3048120"/>
            <a:ext cx="243828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Vicariou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Experienc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914400" y="3962520"/>
            <a:ext cx="243828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Verba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Persuas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914400" y="4876920"/>
            <a:ext cx="243828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Physiologica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Arousal Contro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809880" y="3276720"/>
            <a:ext cx="152424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Self-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Confiden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5562720" y="434340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Though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5486400" y="228600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Times New Roman"/>
              </a:rPr>
              <a:t>Behavio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Oval 16"/>
          <p:cNvSpPr/>
          <p:nvPr/>
        </p:nvSpPr>
        <p:spPr>
          <a:xfrm>
            <a:off x="7391520" y="3048120"/>
            <a:ext cx="144756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a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Line 17"/>
          <p:cNvSpPr/>
          <p:nvPr/>
        </p:nvSpPr>
        <p:spPr>
          <a:xfrm flipV="1">
            <a:off x="3429000" y="4267080"/>
            <a:ext cx="99072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Line 18"/>
          <p:cNvSpPr/>
          <p:nvPr/>
        </p:nvSpPr>
        <p:spPr>
          <a:xfrm flipV="1">
            <a:off x="3429000" y="4114440"/>
            <a:ext cx="30492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3429000" y="3429000"/>
            <a:ext cx="304920" cy="152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3429000" y="2514600"/>
            <a:ext cx="91440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Line 21"/>
          <p:cNvSpPr/>
          <p:nvPr/>
        </p:nvSpPr>
        <p:spPr>
          <a:xfrm flipV="1">
            <a:off x="5410080" y="3124080"/>
            <a:ext cx="76212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5410080" y="3809880"/>
            <a:ext cx="83844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Line 23"/>
          <p:cNvSpPr/>
          <p:nvPr/>
        </p:nvSpPr>
        <p:spPr>
          <a:xfrm flipV="1">
            <a:off x="7162920" y="4267080"/>
            <a:ext cx="53316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8" name="Line 24"/>
          <p:cNvSpPr/>
          <p:nvPr/>
        </p:nvSpPr>
        <p:spPr>
          <a:xfrm>
            <a:off x="7010280" y="2666880"/>
            <a:ext cx="6858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ENHANCING SELF-CONF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2438280"/>
          <a:ext cx="6705720" cy="4064040"/>
        </p:xfrm>
        <a:graphic>
          <a:graphicData uri="http://schemas.openxmlformats.org/drawingml/2006/table">
            <a:tbl>
              <a:tblPr/>
              <a:tblGrid>
                <a:gridCol w="3352680"/>
                <a:gridCol w="335304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a"/>
                          </a:solidFill>
                          <a:latin typeface="Times New Roman"/>
                        </a:rPr>
                        <a:t>Performan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a"/>
                          </a:solidFill>
                          <a:latin typeface="Times New Roman"/>
                        </a:rPr>
                        <a:t>Accomplishment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Rounded MT Bold"/>
                        </a:rPr>
                        <a:t>1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a"/>
                          </a:solidFill>
                          <a:latin typeface="Times New Roman"/>
                        </a:rPr>
                        <a:t>Vicarious Experienc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Rounded MT Bold"/>
                        </a:rPr>
                        <a:t>1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Rounded MT Bold"/>
                        </a:rPr>
                        <a:t>2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a"/>
                          </a:solidFill>
                          <a:latin typeface="Times New Roman"/>
                        </a:rPr>
                        <a:t>Verbal Persuasi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Rounded MT Bold"/>
                        </a:rPr>
                        <a:t>1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Rounded MT Bold"/>
                        </a:rPr>
                        <a:t>2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a"/>
                          </a:solidFill>
                          <a:latin typeface="Times New Roman"/>
                        </a:rPr>
                        <a:t>Physiological Arous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Rounded MT Bold"/>
                        </a:rPr>
                        <a:t>1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Rounded MT Bold"/>
                        </a:rPr>
                        <a:t>2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3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600200" y="1752480"/>
          <a:ext cx="6705720" cy="517680"/>
        </p:xfrm>
        <a:graphic>
          <a:graphicData uri="http://schemas.openxmlformats.org/drawingml/2006/table">
            <a:tbl>
              <a:tblPr/>
              <a:tblGrid>
                <a:gridCol w="3352680"/>
                <a:gridCol w="335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Times New Roman"/>
                        </a:rPr>
                        <a:t>Hierarchical Mode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Times New Roman"/>
                        </a:rPr>
                        <a:t>Intervention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GENERAL CONFIDENCE DEVELOPMENT STRATEGIE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rformance accomplish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goal-setting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icarious experiences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modeling/demonstrations – Namath’s Jets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imagery – Russell “déjà vu,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erbal persuasio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reinforcement – enhances feelings of competence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self talk – confidence script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rousal contro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990720" y="1676520"/>
            <a:ext cx="7848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FIDENCE-DEVELOPMENT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IPS FOR PRACTITIONER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evelop a systematic goal setting program and log and graph progres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reate a personal Hall-of-Fame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esign a systematic conditioning program and maximize preparation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use effective modeling strategie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play past successes and imagine future triumphs, 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mphasize confidence-building though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066680" y="1600200"/>
            <a:ext cx="8077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How do you maintain your self-confidence during competition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DEVELOPING &amp; MAINTAINING COMPETITIVE CONFIDENC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ppraise situations as challenges rather than threats,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develop readiness, performance and recovery plans to deal with problems,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emphasize problem-focused coping strategies to reduce threat,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use emotion-focused coping techniques to feel less threatened, and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focus on more controllable process and performance goals.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143000" y="1600200"/>
            <a:ext cx="7696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What is the self-fulfilling prophecy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LF- CONFIDENCE DEFIN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99ff"/>
                </a:solidFill>
                <a:uFillTx/>
                <a:latin typeface="Times New Roman"/>
              </a:rPr>
              <a:t>True Self-Confidence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– is a realistic belief or expectation of achieving succ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lf-Confiden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not what you hope to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fcab4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but what you realistically expect to 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not what you tell others</a:t>
            </a:r>
            <a:r>
              <a:rPr b="1" lang="en-US" sz="2800" spc="-1" strike="noStrike">
                <a:solidFill>
                  <a:srgbClr val="fcab4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but your innermost  thoughts about your realistic capabilities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not pride in past deeds</a:t>
            </a:r>
            <a:r>
              <a:rPr b="1" lang="en-US" sz="2800" spc="-1" strike="noStrike">
                <a:solidFill>
                  <a:srgbClr val="fcab4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but a realistic judgment about what you are able to 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914400" y="152388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ELF-FULFILLING PROPHECY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Times New Roman"/>
              </a:rPr>
              <a:t>Self-Fulfilling Prophecies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– occur when coaches’/teachers’ expectations prompt athletes/students to behave or perform in a way that conforms with those expectan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Times New Roman"/>
              </a:rPr>
              <a:t>Rosenthal and Jacobson (1968)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found that a group teachers believed were “academic late bloomers” made greater educational gains than did a control group for whom they had neutral expectancies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pectancies of teachers, coaches and parents can significantly raise or lower performers’ self-confidence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143000" y="1143000"/>
            <a:ext cx="7696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What are the four (4) steps of the Self-Fulfilling Prophecy Process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838080" y="1155600"/>
            <a:ext cx="8305920" cy="5702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Times New Roman"/>
              </a:rPr>
              <a:t>SELF-FULFILLING PROPHECY MODEL</a:t>
            </a:r>
            <a:endParaRPr b="0" lang="en-US" sz="3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219320" y="838080"/>
            <a:ext cx="7543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ELF-FULFILLING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 PROPHECY PROCES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Times New Roman"/>
              </a:rPr>
              <a:t>STEP 1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aches Develop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Times New Roman"/>
              </a:rPr>
              <a:t>STEP 2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aches’ Expectations Influence thei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reatment of Athletes (i.e., frequency,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uration, and quality of interactions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Times New Roman"/>
              </a:rPr>
              <a:t>STEP 3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– Athletes’  Learning and Performance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Is Impacted by Differential Treat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Times New Roman"/>
              </a:rPr>
              <a:t>STEP 4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--  Athletes’ Behavior Conforms to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Coaches’ Expec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914400" y="160020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TEP 1: COACHES FORM EXPECTATION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99ff"/>
                </a:solidFill>
                <a:uFillTx/>
                <a:latin typeface="Times New Roman"/>
              </a:rPr>
              <a:t>Person Cue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race,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gender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socioeconomic status,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size,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body type, and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style of dres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99ff"/>
                </a:solidFill>
                <a:uFillTx/>
                <a:latin typeface="Times New Roman"/>
              </a:rPr>
              <a:t>Performance Informatio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conditioning and skills tests,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previous performance history,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evaluation of others, and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tryout information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143000" y="1600200"/>
            <a:ext cx="7696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TEP 2: DIFFERENTIAL EXPECTANCIES IMPACT COACHING BEHAVIOR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ype, frequency and warmth of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interaction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nature of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instructional behaviors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(e.g., skills taught, difficulty of skills, and persistenc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nature of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feedback behaviors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(e.g., valence, specificity, and corrective conten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attributions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or success and fail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1295280" y="2057400"/>
            <a:ext cx="7239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STEP 3: COACHES’ BEHAVIOR IMPACTS ATHLETES’ PERFORMANC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imes New Roman"/>
              </a:rPr>
              <a:t>quantity and quality of learning,</a:t>
            </a:r>
            <a:endParaRPr b="0" lang="en-US" sz="3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imes New Roman"/>
              </a:rPr>
              <a:t>quality of competitive cognitions and performance, and</a:t>
            </a:r>
            <a:endParaRPr b="0" lang="en-US" sz="3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imes New Roman"/>
              </a:rPr>
              <a:t>long-term development.  </a:t>
            </a:r>
            <a:endParaRPr b="0" lang="en-US" sz="3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1295280" y="2133720"/>
            <a:ext cx="73152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STEP 4: ATHLETES’ PERFORMANCE CONFORMS WITH COACHES’ EXPECTATION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thletes most susceptible to Self-Fulfilling Prophecy effects are . .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younger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less experienced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lower in self-esteem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more coachable, an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value success mo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990720" y="2133720"/>
            <a:ext cx="7848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How do we maximize positive Self-Fulfilling Prophecy effects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HOW TO MAXIMIZE POSITIVE SFP EFFECT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Determine what sources of information are used to form expectation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Realize initial expectancies may be inaccurate, requiring adjustment as performers skill change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Equalize skill-development time across athlete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Provide all performers sufficient time to fully master skill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Respond to errors with corrective instruction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Focus on product as a means to attain product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Develop good coach-athlete relationship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Create a performance-oriented team climate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474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1066680" y="1523880"/>
            <a:ext cx="7848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LF CONFIDENCE TERMI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LF-EFFICACY  DEFIN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imes New Roman"/>
              </a:rPr>
              <a:t>Self-efficacy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– is a realistic belief or expectation about achieving success on a specific task in a specific situa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“I can pole vault 16’6” in this meet.”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“I will hit this game-winning sho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elf-efficacy is least impacted by personality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ecause it is highly specific, unstable and based on situational factors such as task difficulty, preparation, recent successes/failures and playing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Line 1028"/>
          <p:cNvSpPr/>
          <p:nvPr/>
        </p:nvSpPr>
        <p:spPr>
          <a:xfrm>
            <a:off x="914400" y="144792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RELATIONSHIPS BETWEEN TYPES OF CONF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99ff"/>
                </a:solidFill>
                <a:latin typeface="Times New Roman"/>
              </a:rPr>
              <a:t>Confidence is developed “bottom up. </a:t>
            </a: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Athletes should attempt to enhance  self-efficacy by accumulating success experiences in specific situation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Next, as self-efficacy experiences increase , state self-confidence improves. 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Finally, an accumulation of state self-confidence experiences eventually boosts trait self-confidence. 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For example, </a:t>
            </a:r>
            <a:r>
              <a:rPr b="1" lang="en-US" sz="2200" spc="-1" strike="noStrike">
                <a:solidFill>
                  <a:srgbClr val="3399ff"/>
                </a:solidFill>
                <a:latin typeface="Times New Roman"/>
              </a:rPr>
              <a:t>an athlete may have high self-efficacy of rebounding well in an upcoming game but be worried about her ability to play good defense on the opponent’s star player. 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3399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Making some good stops increases defensive self-efficacy during the game.  A strong overall defensive game enhances state self confidence to play well  overall in the next game, while 6 good  games in a row boosts trait basketball self confidence. 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914400" y="175248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HIERARCHICAL MODEL OF CONF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914400" y="167652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876920" y="2133720"/>
            <a:ext cx="1904760" cy="68580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9528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elf-Esteem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2952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Global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1440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Domain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895480" y="3581280"/>
            <a:ext cx="1295640" cy="60984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9718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Physica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648320" y="3581280"/>
            <a:ext cx="1066680" cy="60984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57200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Menta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6172200" y="3581280"/>
            <a:ext cx="1066680" cy="60984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248520" y="3657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ocia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7620120" y="3581280"/>
            <a:ext cx="1143000" cy="60984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762012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rtistic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2209680" y="5257800"/>
            <a:ext cx="1752840" cy="10666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286000" y="5410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port Competen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838080" y="533412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ontex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4267080" y="5257800"/>
            <a:ext cx="1447920" cy="10666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Text Box 21"/>
          <p:cNvSpPr/>
          <p:nvPr/>
        </p:nvSpPr>
        <p:spPr>
          <a:xfrm flipV="1" rot="10800000">
            <a:off x="4114800" y="5234040"/>
            <a:ext cx="1827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ttr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Bo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6095880" y="5257800"/>
            <a:ext cx="1219320" cy="10666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6095880" y="5410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Physical Strength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7620120" y="5257800"/>
            <a:ext cx="1218960" cy="99072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8153280" y="495252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3124080" y="4952880"/>
            <a:ext cx="502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Line 32"/>
          <p:cNvSpPr/>
          <p:nvPr/>
        </p:nvSpPr>
        <p:spPr>
          <a:xfrm flipV="1">
            <a:off x="5715000" y="47242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Line 33"/>
          <p:cNvSpPr/>
          <p:nvPr/>
        </p:nvSpPr>
        <p:spPr>
          <a:xfrm flipH="1">
            <a:off x="3580920" y="4724280"/>
            <a:ext cx="2133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Line 34"/>
          <p:cNvSpPr/>
          <p:nvPr/>
        </p:nvSpPr>
        <p:spPr>
          <a:xfrm flipV="1">
            <a:off x="3581280" y="419112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Line 35"/>
          <p:cNvSpPr/>
          <p:nvPr/>
        </p:nvSpPr>
        <p:spPr>
          <a:xfrm>
            <a:off x="3581280" y="3352680"/>
            <a:ext cx="4648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Line 36"/>
          <p:cNvSpPr/>
          <p:nvPr/>
        </p:nvSpPr>
        <p:spPr>
          <a:xfrm flipV="1">
            <a:off x="5867280" y="281916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Line 37"/>
          <p:cNvSpPr/>
          <p:nvPr/>
        </p:nvSpPr>
        <p:spPr>
          <a:xfrm>
            <a:off x="3581280" y="33526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Line 39"/>
          <p:cNvSpPr/>
          <p:nvPr/>
        </p:nvSpPr>
        <p:spPr>
          <a:xfrm>
            <a:off x="5105520" y="33526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Line 40"/>
          <p:cNvSpPr/>
          <p:nvPr/>
        </p:nvSpPr>
        <p:spPr>
          <a:xfrm>
            <a:off x="6629400" y="33526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Line 41"/>
          <p:cNvSpPr/>
          <p:nvPr/>
        </p:nvSpPr>
        <p:spPr>
          <a:xfrm>
            <a:off x="8229600" y="33526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Line 42"/>
          <p:cNvSpPr/>
          <p:nvPr/>
        </p:nvSpPr>
        <p:spPr>
          <a:xfrm>
            <a:off x="6705720" y="4952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Line 44"/>
          <p:cNvSpPr/>
          <p:nvPr/>
        </p:nvSpPr>
        <p:spPr>
          <a:xfrm>
            <a:off x="3124080" y="495288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Line 45"/>
          <p:cNvSpPr/>
          <p:nvPr/>
        </p:nvSpPr>
        <p:spPr>
          <a:xfrm>
            <a:off x="4876920" y="495288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TextBox 39"/>
          <p:cNvSpPr/>
          <p:nvPr/>
        </p:nvSpPr>
        <p:spPr>
          <a:xfrm>
            <a:off x="7543800" y="5410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Physica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Condi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Does self-confidence enhance performance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ELF-CONFIDENCE ENHANCES PERFORMANC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ahoney &amp; Avener (1976) 1976 Olympic qualifiers were more confident than nonqualifi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eltz’ (1988) review found moderate to strong relationships between confidence and performance (i.e., mean r = .54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search finds a reciprocal relationship between self-confidence and perform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990720" y="1676520"/>
            <a:ext cx="7924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 advTm="12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16:10:35Z</dcterms:created>
  <dc:creator/>
  <dc:description/>
  <dc:language>en-US</dc:language>
  <cp:lastModifiedBy>Bright</cp:lastModifiedBy>
  <dcterms:modified xsi:type="dcterms:W3CDTF">2013-08-22T12:34:23Z</dcterms:modified>
  <cp:revision>25</cp:revision>
  <dc:subject/>
  <dc:title>SELF-CONFIDENCE</dc:title>
</cp:coreProperties>
</file>